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2C9-55BB-4836-9EDD-A4981275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C10-FFAE-49C9-8C3F-153BBC1C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BD9-9A0A-4B3C-B580-C0052C3D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FD3-B1A8-4724-981A-D07ADC72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0B3-6328-4648-9D9B-3D8F662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001-4DE3-4407-8884-2BEF1F3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3E-F1CB-49A3-8737-EDA232D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F26-58B6-41B4-ADCF-B8EA8202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5DC-9FCB-46D3-80EA-91A6B972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D6A-C2F3-47DF-87B9-BF4CDB6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1FD-3C3B-4C73-B05B-26B85F8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5DC-70A2-408F-8C91-8B2C0BFF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654A-3A27-4662-88A0-0D79C876A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696080" cy="530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99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866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AME THE CONTINENTS:  Letter your paper A, B, C, D, E, F, G.  Write the name of the continent next to the correct let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20:53:13Z</dcterms:created>
  <dc:creator>Barbara Weaver</dc:creator>
  <dc:description/>
  <dc:language>en-US</dc:language>
  <cp:lastModifiedBy>Barbara Weaver</cp:lastModifiedBy>
  <dcterms:modified xsi:type="dcterms:W3CDTF">2009-10-10T21:03:17Z</dcterms:modified>
  <cp:revision>1</cp:revision>
  <dc:subject/>
  <dc:title>PowerPoint Presentation</dc:title>
</cp:coreProperties>
</file>